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9583-AD1A-4B16-A14E-C69DFEF0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AFA-860F-4505-B550-29D74D6D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F939-FEA9-44C2-B0FD-75FDF337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09C-4921-4E77-B7FA-454F17AD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AE91-9617-4EB8-8478-D09119A8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B8D-B4AE-4028-A102-EBBD1896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887-9E5C-419E-809D-C7CC06A8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3AE2-3035-4703-BE1A-82C3CC42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B7A-9992-4D6F-BBF0-076DD496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114-B1C3-47FB-812B-1ED23D8B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BE5C-739E-4497-9A7D-3B689E92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38C-2C4F-45DD-AE89-987FDCCC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323D-89E9-4E1F-95E8-855E51EE2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DSpace Text Extrac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est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 first poi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ick brown fox jumped over the lazy 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 quick as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n clos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Space can extract the text from your presentation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it a try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18:22:40Z</dcterms:created>
  <dc:creator>Tim Donohue</dc:creator>
  <dc:description/>
  <dc:language>en-US</dc:language>
  <cp:lastModifiedBy>Tim Donohue</cp:lastModifiedBy>
  <dcterms:modified xsi:type="dcterms:W3CDTF">2022-03-30T18:26:15Z</dcterms:modified>
  <cp:revision>1</cp:revision>
  <dc:subject/>
  <dc:title>DSpace Text Extraction</dc:title>
</cp:coreProperties>
</file>