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3B6-1362-4146-A619-05D56014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F6A-03EC-4D73-8256-734AC330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270-BF9C-4BDD-AEFA-EABE85D7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EFA-3764-4E29-9CCD-99E76AD1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9B0-B46A-498B-BF25-D8DCA597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ED6-E33A-4078-BE8D-ACE79FCD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B653-B1AD-4ABB-87E6-EFF40075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17A-A020-45AA-9DC2-E70AB5FB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BF46-956B-4AC1-9185-4E369C27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FF4-B2FA-4CDB-917A-6BD89E82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4E8D-7186-45D8-9FF0-BEC87142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053B-C622-4DF6-AD48-066D8D38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F9DB-9E56-4154-9912-726147B70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DSpace Text Extrac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est 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 first poi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ick brown fox jumped over the lazy d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 quick as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In clos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Space can extract the text from your presentation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it a try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18:22:40Z</dcterms:created>
  <dc:creator>Tim Donohue</dc:creator>
  <dc:description/>
  <dc:language>en-US</dc:language>
  <cp:lastModifiedBy>Tim Donohue</cp:lastModifiedBy>
  <dcterms:modified xsi:type="dcterms:W3CDTF">2022-03-30T18:26:15Z</dcterms:modified>
  <cp:revision>1</cp:revision>
  <dc:subject/>
  <dc:title>DSpace Text Extraction</dc:title>
</cp:coreProperties>
</file>